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253-9987-48DF-9C0A-9BCD34E4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778-4063-46CD-8F1C-14890131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B95-2966-4171-86B9-B6A9925D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5A0-CC2D-4229-B4FC-9A2342E6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8CA-BF8F-4F8A-BEB3-D3219902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B20E-C62F-4220-AA53-C48EF8A7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7B90-DFD9-4270-B641-9818948B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379E-1738-46B4-94E5-24507C70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7208-0EDC-46F1-9472-0AA92FBE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944-E1FD-47D7-9170-9FFDC73D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67E5-B692-4A16-8427-4A2301C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6AD-B41E-4492-B50F-8CED07BF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DFB0-D542-4AEF-8340-6EC2634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E767-0334-4916-90A6-EF6239E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0E70-2451-4F00-ADF2-B37149FD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57AD-2B00-461B-9072-A7F4AA39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F7A6-3559-4879-ADDC-B3154600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179-5453-4926-B87A-5F8A38B6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002-4A7E-4ED0-9C3B-4BB33BE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1C4-7236-4E41-B72A-B466777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676-51A8-40B7-9CD8-7C12269F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C2A-85E3-4936-9B07-7D98488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BFA-0CAA-4873-9CC7-68E8662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800-D327-4077-8470-4FDB0128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71FF-D7FE-4441-A1FF-A36A4E0DF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031-88C7-4E67-9FD1-F3BF631DA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6480" y="1752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438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16280" y="3168720"/>
            <a:ext cx="49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rpr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75240" y="3168720"/>
            <a:ext cx="38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’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w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523880" y="2971800"/>
            <a:ext cx="64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games played between classes intramural or innermur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2240" y="316872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amur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89280" y="3168720"/>
            <a:ext cx="58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Respectfully/respectively) is each in the order indi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04400" y="31687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ectiv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89280" y="316872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mpersand and when are they not us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10880" y="31687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, in formal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89280" y="316872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eminent/imminent) threatening to occur so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00800" y="3168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min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355560" y="312408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lo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o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89280" y="316872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 words that can be used in place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oughte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89280" y="31687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e-bought, ready-made, commercial, etc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89280" y="3168720"/>
            <a:ext cx="57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 using what in place of since or becau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616120" y="327672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ing as and being th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89280" y="3168720"/>
            <a:ext cx="48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root word of mischiev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9720" y="3168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ch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02240" y="3168720"/>
            <a:ext cx="55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what follows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87480" y="316872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lau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89280" y="316872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a hyphen needed if the word is compou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3240" y="3168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804120" y="31240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89280" y="316872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 would have in _____ clau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4118760" y="3276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618280" y="3200400"/>
            <a:ext cx="51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spicion is a (noun/verb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576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22400" y="3168720"/>
            <a:ext cx="61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goo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89280" y="31687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may BE good, but it is DONE we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22040" y="3168720"/>
            <a:ext cx="60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examples of a palindr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89280" y="3168720"/>
            <a:ext cx="30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91, Hannah, m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07280" y="3168720"/>
            <a:ext cx="32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y 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0000" y="3168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7000" y="3168720"/>
            <a:ext cx="50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busines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628280" y="3200400"/>
            <a:ext cx="52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ose/lo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k of the extr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s extra freed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18440" y="3168720"/>
            <a:ext cx="62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n’t you use a quo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11240" y="316872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n indirect quo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89280" y="3168720"/>
            <a:ext cx="474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make vowel ending words plura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89280" y="3168720"/>
            <a:ext cx="5045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ding –es. Ex) potato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: in music. Ex) so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952560" y="31240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ould numbers be spelled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080" y="31687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words or l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20240" y="316872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fer to w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7920" y="31687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913040" y="3168720"/>
            <a:ext cx="45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de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89280" y="3168720"/>
            <a:ext cx="405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high school, senior, bank, river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tc. capitaliz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89280" y="316872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part of or in place of proper nou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17720" y="3168720"/>
            <a:ext cx="50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emet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829960" y="3048120"/>
            <a:ext cx="41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’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e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17360" y="3168720"/>
            <a:ext cx="50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ing clue for separ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89280" y="3168720"/>
            <a:ext cx="39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ra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35</cp:lastModifiedBy>
  <dcterms:modified xsi:type="dcterms:W3CDTF">2010-05-18T19:52:10Z</dcterms:modified>
  <cp:revision>21</cp:revision>
  <dc:subject/>
  <dc:title>Jeopardy</dc:title>
</cp:coreProperties>
</file>